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EE1-7320-4501-886E-8FD7FCD5462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6C06-5503-4982-AFC5-4E11C638041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B8C-9600-4D5D-8E42-FA32A601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AC0-7687-469A-8FDE-E31829D1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0E8-E364-4DC3-9AA4-8D00C915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211-6992-45E0-832D-3C10FE53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1CB-0527-4826-B8F6-624AFD34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E35-CB5C-4060-9118-411F815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F6D-4B86-4017-B246-D86727AF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4AA-0C30-4DE9-917F-BF26663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758-054B-4F6D-8CAD-1E3A8739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DB7-5837-4DE1-A854-4DC649D2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219-58BC-4EE4-AC60-E8C7F1A6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A3F-3A43-4825-BE1A-54BA24B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A8C7-0EC1-4988-82CA-2DBF55A48E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7" descr=""/>
          <p:cNvPicPr/>
          <p:nvPr/>
        </p:nvPicPr>
        <p:blipFill>
          <a:blip r:embed="rId1"/>
          <a:stretch/>
        </p:blipFill>
        <p:spPr>
          <a:xfrm>
            <a:off x="7020000" y="2421000"/>
            <a:ext cx="1873080" cy="401400"/>
          </a:xfrm>
          <a:prstGeom prst="rect">
            <a:avLst/>
          </a:prstGeom>
          <a:ln w="0">
            <a:noFill/>
          </a:ln>
        </p:spPr>
      </p:pic>
      <p:pic>
        <p:nvPicPr>
          <p:cNvPr id="49" name="Object 8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1656000" cy="41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9"/>
          <p:cNvGraphicFramePr/>
          <p:nvPr/>
        </p:nvGraphicFramePr>
        <p:xfrm>
          <a:off x="2827440" y="4738680"/>
          <a:ext cx="124452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7440" y="4738680"/>
                    <a:ext cx="12445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Object 12" descr=""/>
          <p:cNvPicPr/>
          <p:nvPr/>
        </p:nvPicPr>
        <p:blipFill>
          <a:blip r:embed="rId5"/>
          <a:stretch/>
        </p:blipFill>
        <p:spPr>
          <a:xfrm>
            <a:off x="2987640" y="692280"/>
            <a:ext cx="1728720" cy="39024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3" descr=""/>
          <p:cNvPicPr/>
          <p:nvPr/>
        </p:nvPicPr>
        <p:blipFill>
          <a:blip r:embed="rId6"/>
          <a:stretch/>
        </p:blipFill>
        <p:spPr>
          <a:xfrm>
            <a:off x="5148360" y="5229360"/>
            <a:ext cx="3744720" cy="1109520"/>
          </a:xfrm>
          <a:prstGeom prst="rect">
            <a:avLst/>
          </a:prstGeom>
          <a:ln w="0">
            <a:noFill/>
          </a:ln>
        </p:spPr>
      </p:pic>
      <p:sp>
        <p:nvSpPr>
          <p:cNvPr id="54" name="Line 15"/>
          <p:cNvSpPr/>
          <p:nvPr/>
        </p:nvSpPr>
        <p:spPr>
          <a:xfrm>
            <a:off x="3564000" y="1125360"/>
            <a:ext cx="0" cy="793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4932360" y="270828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2050920" y="2637000"/>
            <a:ext cx="50508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 flipV="1">
            <a:off x="6516720" y="2781360"/>
            <a:ext cx="1224000" cy="22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>
            <a:off x="3635280" y="270828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3059280" y="2060640"/>
            <a:ext cx="121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539640" y="1916280"/>
            <a:ext cx="61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D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2843280" y="5229360"/>
            <a:ext cx="106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y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7596360" y="191628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156360" y="630864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1187280" y="692280"/>
            <a:ext cx="172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yl ha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1692360" y="2133720"/>
            <a:ext cx="1081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KMnO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5003640" y="2781360"/>
            <a:ext cx="136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NZ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 / 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 rot="17842200">
            <a:off x="6675480" y="3503160"/>
            <a:ext cx="20876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CO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H  / Conc 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1763640" y="0"/>
            <a:ext cx="5905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99"/>
                </a:solidFill>
                <a:latin typeface="Arial"/>
              </a:rPr>
              <a:t>Year 13 Organic Chemistry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3132000" y="3573360"/>
            <a:ext cx="360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3635280" y="141300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 flipV="1">
            <a:off x="1979640" y="2781360"/>
            <a:ext cx="792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 rot="18112800">
            <a:off x="2322000" y="3140640"/>
            <a:ext cx="720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Br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5"/>
          <p:cNvGraphicFramePr/>
          <p:nvPr/>
        </p:nvGraphicFramePr>
        <p:xfrm>
          <a:off x="884160" y="3948120"/>
          <a:ext cx="1295640" cy="73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4160" y="3948120"/>
                    <a:ext cx="1295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7"/>
          <p:cNvGraphicFramePr/>
          <p:nvPr/>
        </p:nvGraphicFramePr>
        <p:xfrm>
          <a:off x="324000" y="2349360"/>
          <a:ext cx="1295280" cy="84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Object 3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2349360"/>
                    <a:ext cx="129528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Line 16"/>
          <p:cNvSpPr/>
          <p:nvPr/>
        </p:nvSpPr>
        <p:spPr>
          <a:xfrm>
            <a:off x="4932360" y="249228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5003640" y="1700280"/>
            <a:ext cx="9367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Conc 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124000" y="1197000"/>
            <a:ext cx="122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NaOH / Et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3348000" y="112500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2"/>
          <p:cNvGraphicFramePr/>
          <p:nvPr/>
        </p:nvGraphicFramePr>
        <p:xfrm>
          <a:off x="6443640" y="692280"/>
          <a:ext cx="1943280" cy="36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43640" y="692280"/>
                    <a:ext cx="19432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Line 15"/>
          <p:cNvSpPr/>
          <p:nvPr/>
        </p:nvSpPr>
        <p:spPr>
          <a:xfrm flipH="1">
            <a:off x="4858920" y="836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5292720" y="836640"/>
            <a:ext cx="6476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N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6429240" y="1643040"/>
            <a:ext cx="936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PCl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3708360" y="1052640"/>
            <a:ext cx="3888000" cy="129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7128000" y="10526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5643720" y="1285920"/>
            <a:ext cx="107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SOCl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0:05:05Z</dcterms:created>
  <dc:creator>Ministry of Education</dc:creator>
  <dc:description/>
  <dc:language>en-US</dc:language>
  <cp:lastModifiedBy>David</cp:lastModifiedBy>
  <dcterms:modified xsi:type="dcterms:W3CDTF">2009-09-07T09:03:43Z</dcterms:modified>
  <cp:revision>14</cp:revision>
  <dc:subject/>
  <dc:title>Slide 1</dc:title>
</cp:coreProperties>
</file>